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6CF-FFEF-4939-AB80-B1D5CE31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FF1-C0B7-4550-8539-83088626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D72-B180-410B-9186-1A346F48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24C-9DFE-45C4-88F2-D648D0F2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82E-B8F0-4784-9BDF-722F0C2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2B1-DECA-405E-A577-B9132BF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8EB-C78D-484F-AD68-EEBD2F17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C71-03F4-4B2E-908B-923797D6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9C8-817C-49D2-9049-655A8F3A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6FF-B096-4609-95BB-63D8D52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92E-D102-4C19-BE31-EC52EB3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6E9-5978-4208-9D71-5018AA0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6655-520E-4F2A-9829-7CAB7C8B2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rial"/>
              </a:rPr>
              <a:t>ניהול אנשים</a:t>
            </a:r>
            <a:br>
              <a:rPr sz="6600"/>
            </a:br>
            <a:r>
              <a:rPr b="1" lang="hi-IN" sz="6600" spc="-1" strike="noStrike">
                <a:solidFill>
                  <a:srgbClr val="ff0000"/>
                </a:solidFill>
                <a:latin typeface="Arial"/>
              </a:rPr>
              <a:t>למול: </a:t>
            </a:r>
            <a:br>
              <a:rPr sz="6600"/>
            </a:br>
            <a:r>
              <a:rPr b="1" lang="hi-IN" sz="6600" spc="-1" strike="noStrike">
                <a:solidFill>
                  <a:srgbClr val="000000"/>
                </a:solidFill>
                <a:latin typeface="Arial"/>
              </a:rPr>
              <a:t>ניהול משימו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ועז נחמ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boaz8.co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50-520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z8@zahav.net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ישנן משימות בהן האדם חשוב לא פחות מהמשימה שהוטלה על המנה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ישנן משימות בהן הביצוע והיישום של המשימה חשוב הרבה מעבר לתחושות של עובד זה או אח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במרבית המשימות, השגת המטרה והמשימה היא באמצעות ניהול נכון של אנשים – וזהו הסוד האמיתי של מנהיגים מנצחי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מבו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לנהל אנשים פירושו של דבר לוודא כי המנהל מכוון את תהליכי העבודה שלו למול בני אד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לנהל משימות פירושו של דבר לנהל את תהליכי העבודה ואת הנהלים ואת השיטות – להשגת המטר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כוון גם לאנשים וגם למשימות – היא האמנות שבניהו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יכולת זאת ניתנת לרכיש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מנהל מוטה אנש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בורו העובדים שלו הם הדבר הכי חשו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וא יעשה הכל על מנת שלצוות שלו יהיה תמיד נעים, טוב, נוח, ק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וא פשוט לא אוהב חוסר שביעות רצון בקרב העובדים של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עדיף אי ביצוע משימה עלפני חוסר שביעות רצון של עוב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תייחס לעובדים שלו כאל משפחה, חבר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מקדם מאוד עובד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מפרגן לעובד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מארח את העובדים אצלו בעבוד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מנהל מוטה משימ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חייב לבצע כל הזמ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עולם המשימה עולה על האדם שמבצע אות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תחושות ורגשות - לא בבית הספר שלו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עדיף לקדם עובדים מבצעים / מייש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עדיף "יס-מאנים" אצלו בצו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א מטפח תחושה של "הצוות הטוב ביותר" או הצוות המנצח"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את הקרדיטים על ההצלחה לוקח לעצמ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את הבונוסים על הצלחה – גוזר לעצמ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בזמן משבר – את הניהול הוא מחזיר לעצמו ברמת הריכוזיות של הסמכוי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מנהל משלב אנשים ומשימ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השיג תוצאות באמצעות הנעת אנש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הנהיג אנשים במקום לנהל אות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רתום את האנשים למשימה במקום לכפות עליהם ביצוע המשימ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גרום לאנשים לעשות את מה שהם לא היו מעיזים לעשות בעצמ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היכולת להאמין בבני האד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עשה את הכל עבור העובדים שלו – והם בתמורה יעשו הכל עבור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נהל כל עובד ועובד בצורה שמתאימה לו אישית, כאילו תפר את הניהול עבור אותו אד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פרגן לעובדים שלו על מאמץ וגם על תוצאות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פרגן לצוות שלו כקבוצת עובדים, על מאמץ כמו גם, על תוצא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עודד בזמן משבר את הצו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סיכו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יכולת האמיתית של מנהל היא לדעת מתי לנהל אנשים ומתי לנהל משימ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יכולת הזאת קשורה ליכולת שלו לתעדף ניהול  משימות למול ניהול אנש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כל מנהל יש העדפה אישית (טבעית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– למשימות או לאנש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ל המנהל לדעת להתמודד למול כל סוגי המצבים הניהולי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3:51:18Z</dcterms:created>
  <dc:creator>Boaz</dc:creator>
  <dc:description/>
  <dc:language>en-US</dc:language>
  <cp:lastModifiedBy>Boaz</cp:lastModifiedBy>
  <dcterms:modified xsi:type="dcterms:W3CDTF">2006-09-05T05:47:49Z</dcterms:modified>
  <cp:revision>10</cp:revision>
  <dc:subject/>
  <dc:title>ניהול אנשים ניהול משימות</dc:title>
</cp:coreProperties>
</file>