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93F8-89E9-4EFD-89AD-68A8B9F5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A301-3843-4C6D-A86C-970B8C8B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5B55-AA4A-4D3B-BC37-A3E4AB7A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1098-466A-4A33-96E5-267CA80B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8B3D-2833-4A5B-9E37-50346B08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8F3B-AC23-455F-B191-45766A33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2D97-BF86-491D-9334-E534B4BE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6B9D-D741-4C13-A50A-7A0B7E2D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304E-E08A-4C55-9078-59C6FCFF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855D-FF6C-4AAE-AA3E-2CE4344D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7FE4-7874-40F2-89CD-3751B147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8956-EAF5-4665-94D2-095A87E7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96AC-FD86-4ACD-AF82-B36C0F010E99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ff0000"/>
                </a:solidFill>
                <a:latin typeface="Times New Roman"/>
              </a:rPr>
              <a:t>אסרטיביות </a:t>
            </a: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8000"/>
            </a:br>
            <a:r>
              <a:rPr b="1" lang="he-IL" sz="8000" spc="-1" strike="noStrike">
                <a:solidFill>
                  <a:srgbClr val="ff0000"/>
                </a:solidFill>
                <a:latin typeface="Times New Roman"/>
              </a:rPr>
              <a:t>בגביית חובו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בועז נחמ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ww.boaz8.co.il</a:t>
            </a: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      050-520185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000000"/>
                </a:solidFill>
                <a:latin typeface="Times New Roman"/>
              </a:rPr>
              <a:t>האסרטיביות: הגדרות כלליו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היכולת שלי לעמוד על דעתי, מבלי לפגוע בזולת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היכולת שלי לדבר אל הזולת בגובה העיניים, תוך ראיית ניצחונם של שני הצדדים, בו זמנית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00"/>
                </a:solidFill>
                <a:latin typeface="Times New Roman"/>
              </a:rPr>
              <a:t>אסרטיביות - כלל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אסרטיביות איננה תכונה מולדת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נולדנו עם אגרסיביות ופסיביות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אגרסיביות היא תכונה שמבטאת את העוצמה האישית שלי על פני הזולת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פסיביות מבטאת את העליונות של הזולת עלי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אסרטיביות מתחשבת ברגשות של שני הצדדים – בו זמנית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Times New Roman"/>
              </a:rPr>
              <a:t>הגדרות אסרטיביות בגביית חובו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יכולת שלי לתעדף את האינטרסים המיידיים שלי, של המחלקה שלי ושל החברה שלי על פני האינטרסים של החייב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אסרטיביות דנה בחוסר היכולת לספק תשובה ל"צדק האבסולוטי" שנמצא בסיטואציה של גביית חובות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אסרטיביות מטפלת בדחיינות אישית, דחיינות ארגונית, סחטנות רגשית, איומים ועוד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Times New Roman"/>
              </a:rPr>
              <a:t>האם ניתן לרכוש תכונה זא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לא ניתן לרכוש את תכונת האסרטיביות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ניתן להתאמן על המרכיבים החיצוניים שלה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במידה וקיימת אסרטיביות  בסיסית, ניתן לשפר אותה באמצעות תרגול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בחלק מהמקרים, תרגול התנהגות אסרטיביות משפר את החשיבה האסרטיבית לאורך זמן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Times New Roman"/>
              </a:rPr>
              <a:t>כיצד מתרגלים אסרטיביו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בוחנים לאורך כל הזמן – מהם האינטרסים שלי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מוודאים כי אינטרסים אלו מגובים על ידי הנהלת החברה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מתעדפים כל הזמן את האינטרסים הללו על פני אינטרסים אחרי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עובדים בצורה כזאת גם על האישי, פרטי, אינטימי שלנו – לא רק בעבודה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אי אפשר כל הזמן לרצות את כול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להקטין את הפגיעה מאלו שנפגעו מאיתנו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לקבל משובים מאלו שמנהלים אותנו בלבד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מקשיבים לשיחות של חברים ובוחנים האם הם היו אסטיביות או האם הם הביעו אסרטיביות, במהלך השיחה עם הלקוח החייב כספים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חשוב לציין כי אסרטיבייות בגביי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נעשה שימוש רב בסבלנות כלפי הצד השני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לומדים את הצד השני ומתנהגים כלפיו בצורה הנכונה לו אישית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לומדים את הארגון מולו עומדי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מכינים שיעורי בית טרום הגבייה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סובלנות רבה כלפי שונות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מניעת התפרצויות רגשיות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Times New Roman"/>
              </a:rPr>
              <a:t>סיכו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איש גבייה טלפוני חייב להיות אסרטיבי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סיבה לכך היא השמירה על המשך חייו של הלקוח בחברה, כלקוח קונה ומשל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מטרה של האסרטיביות הינה להביא את הכסף כמה שיותר מהר, בכמה שפחות שיחות טלפון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אסרטיביות תבוא לידי ביטוי הן באפקטיביות והן ביעילות של שיחות הגביה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11:13:47Z</dcterms:created>
  <dc:creator>w</dc:creator>
  <dc:description/>
  <dc:language>en-US</dc:language>
  <cp:lastModifiedBy>Boaz</cp:lastModifiedBy>
  <dcterms:modified xsi:type="dcterms:W3CDTF">2006-09-04T17:37:31Z</dcterms:modified>
  <cp:revision>14</cp:revision>
  <dc:subject/>
  <dc:title>אסרטיביות</dc:title>
</cp:coreProperties>
</file>