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780-81D9-40DC-B96A-0CA528E7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B7A-556F-4584-A082-42C759CA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8D5-A85C-48F3-AD82-695EC34D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787-092E-4576-9BCF-664F6993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0EF-1AE0-4DCD-A3F2-1D21B85A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48F-2EED-4D0C-ACF4-1435CEF9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B94-2DBC-4570-8721-B533494C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898-8E4B-40E1-944C-D72B56A9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DAD-2197-48B7-A2AF-C72E8F5B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FDF-A24B-471D-BDD4-C88B2D2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836-A691-4FEE-9DAD-178E767D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422-6B0F-4526-BF9F-6ED59BF2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8F6B-1B9F-4AF0-8575-DC2ECB4B2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oaz8.co.il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boaz8.co.i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  <a:cs typeface="Aharoni"/>
              </a:rPr>
              <a:t>הרצאה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  <a:cs typeface="Aharoni"/>
              </a:rPr>
              <a:t>בנושא:</a:t>
            </a:r>
            <a:r>
              <a:rPr b="1" lang="he-IL" sz="96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br>
              <a:rPr sz="9600"/>
            </a:br>
            <a:r>
              <a:rPr b="1" lang="he-IL" sz="9600" spc="-1" strike="noStrike">
                <a:solidFill>
                  <a:srgbClr val="000000"/>
                </a:solidFill>
                <a:latin typeface="Arial"/>
                <a:cs typeface="Aharoni"/>
              </a:rPr>
              <a:t>קבלת החלטו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4724280"/>
            <a:ext cx="78105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haroni"/>
              </a:rPr>
              <a:t>מרצה: בועז נחמ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haroni"/>
              </a:rPr>
              <a:t>טלפון נייד: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haroni"/>
              </a:rPr>
              <a:t>0505201857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haroni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haroni"/>
                <a:hlinkClick r:id="rId1"/>
              </a:rPr>
              <a:t>www.boaz8.co.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haroni"/>
              </a:rPr>
              <a:t>boaz8@zahav.net.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  <a:cs typeface="Aharoni"/>
              </a:rPr>
              <a:t>מתי תתקבל ההחלטה ולכמה זמן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בואו ונקבל החלטה זמנית: נקבל החלטה לפעול בצורה מסויימת, זמנית בלבד, עד שנדע יותר ואז נחליט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כדאי להחליט שלא להחליט – נוח מאוד.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נחליט על הדילמה הזאת בעוד שנה. אולי היא לא תהיה קיימת עד אז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ההחלטה התקבלה אבל מחכים לנקודות אחרונות (נכון, זה כבר תהליך של שבע או שמונה שנים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  <a:cs typeface="Aharoni"/>
              </a:rPr>
              <a:t>התייעצות מוקדמת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שמעתי אתכם אבל החלטתי לבד: שמעתי את הדעות של כולם אבל קיבלתי החלטה שלי אישית נראית נכונה, על בסיס אחת מההצעות שהוגשו לי או אחר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וועדת מומחים: כינוס של ועדת אנשים מומחים שיקבלו את ההחלטה, ביחד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אספתי לבד חומרים / נתונים על ההחלטה / דילמה שעמדה מול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דלפי: כינוס של מומחים, כל אחד לחוד, שיחליטו לבד כל אחד ואז אני אקבל את ההחלטה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haroni"/>
              </a:rPr>
              <a:t>סגנון ההחלטה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החלטה בצורה דמוקרטית: בואו ונראה מה הרוב חושב ולפי זה נקבל את ההחלט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שיתוף עובדים בקבלת החלטות: שיתוף האנשים שאמורים ליישם את הרעיון, בשלב ההחלטה עצמה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פישור/גישור פנימי: בוא ננסה לקרב בין העמדות הקיצוניות הקיימות וננסה לגשר עליהן ואז להחליט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. כשלים בקבלת החלט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לא מקבלים את ההחלטה בכלל: חיים ופועלים בלי לקבל שום החלט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דחיינות בקבלת ההחלטה: דוחים את קבלת ההחלטה עד למועד האחרון ואז מחליטים בלחץ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שיתוף גורמים לא נכונים: משתפים את האנשים או את הגורמים הלא נכונים בקבלת החלט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עירוב בין גורמים רצויונאליים לאמוציונאליים: לא מקבלים החלטה על הבסיס הנכו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מחליטים כאשר כועסים מאוד: מקבלים החלטה בזמן כעס כבד או קשה על הצד השנ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מחליטים מהר ומייד בלי לבדוק (באמת) את כל האפשרויות הקיימ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מחליטים מהר ומייד בלי לבדוק (באמת) את כל התוצאות של ההחלטה שלנו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לא בוחנים רציו למול אמוצי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לא משקיעים מספיק זמן בהחלטות חשובות מאוד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אם אנו צריכים להשפיע על מקבלי ההחלטות: לא התאמנו מספיק לשם העברת המסר שלנו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בזמן התייעצות עם עוד אנשים הפעילו עלינו סחטנות ריגשית / דחיינות או איומים (גלויים או סמויי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בזמן התייעצות עם עוד אנשים הם היו "יס-מאנים" ורצו לרצות אותנו במקום לייעץ לנו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האנשים שקיבלו ביחד איתנו את ההחלטה הגיעו כולם מאותה דיסיפלינ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כל האנשים שאמורים היו לסייע לקבל את ההחלטה הושפעו מאדם אחד בתוך הקבוצה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. החלטות קטנות למול החלטות גדול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המחיר הנדרש עבור המוצ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זמינות התקציב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אישורים הנדרשים לקבלת התקצי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זמן קבלת ההחלטה העומד בפני מקבל ההחלט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כמה אנשים נדרשים מעורבים לקבלת ההחלט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עד כמה אני מחוייב להחלטה זאת לאחר קבלת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החלטה קטנה היא אמוציונלית, רגשית, רגעי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עד כמה אנשים אחרים מחוייבים להחלטה זאת ביחד אית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מה יקרה במקרה בו תתגלה שגיאה בהחלט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כמה יעלה לתקן את הטעות של ההחלט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כמה אנשים יידעו כי אני טעיתי בהחלט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עד כמה מקבל ההחלטה מושפע מריגוש רגעי, חד פעמי או מגירוי שמגיע אליו או שהוא נחשף אלי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ככל שההחלטה גדולה יותר, כך אי הוודאות עול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ככל שההחלטה גדולה יותר ישנם יותר משתנים שלא תלויים במקבל ההחלטה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. קבלת החלטות בתנאי וודאו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וודאות מוחלטת בקבלת החלטות קיימת במעט מאוד מתוך ההחלטות שמתקבל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מדובר בדרך כלל בהחלטה שהיא כמעט "אוטומטית": היינו שם, אנו מכירים את כל האפשרויות שיכולות להתפתח, אנחנו יודעים כיצד כולם מתנהגים תמיד בכל המקומות. כמעט ואין שום אפשרות לתקלה או לטע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במרבית ההחלטות, אם כך, קיימת מידה מסויימת של אי וודאות במהלך קבלת ההחלטה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haroni"/>
              </a:rPr>
              <a:t>קבלת החלטה בתנאי אי וודא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מרבית ההחלטות מתקבלות במצבי אי וודא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מרבית ההחלטות הגדולות מתקבלות במצבי אי וודא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ככל שאי הוודאות גדולה כך קשה יותר לקבל החלט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ככל שאי הוודאות גדולה יותר נוטים לדחות את ההחלט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לעיתים, איסוף מידע עולה בזמן, כסף ומשאבים נוספים שיש להשקיע אות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haroni"/>
              </a:rPr>
              <a:t>עיקרי ההדרכ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חשיבות לימוד קבלת נושא החלט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אקסיומות בקבלת החלט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שיטות שונות לקבלת החלט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כשלים בקבלת החלט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החלטות קטנות למול החלטות גדול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וודאות בקבלת החלט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טיפים בקבלת החלטה חכמ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סיכו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כעיקרון - אין אפשרות לוודאות ש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haroni"/>
              </a:rPr>
              <a:t>10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haroni"/>
              </a:rPr>
              <a:t> במהלך קבלת ההחלט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לעיתים, שימוש במטבע לקבלת החלטות (עץ או פאלי) נותן תוצאה טובה יותר מאשר שימוש מושכל ומדוד בנתונ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ברם – עדיין כדאי מאוד לבצע גם שיקולים רציונאליים והגיוניים ושקולים – בקבלת החלט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. טיפים בקבלת החלטות חכמ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החלטה כאשר יש לך מספיק זמן לפני המועד הסופ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ערב אנשים חכמים, מנוסים, ויודע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בהחלטות גדולות, כאשר ההחלטה שלך רלוונטית לעוד אנשים, נסה לא להכריז על מהפיכות או מלחמ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שקול בצורה רציונאלית את האפשרויות הקיימ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בדוק האם בחנת את כל האלטרנטיבות הקיימות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בדוק, לכל הצעה קיימת, את העלויות המלאות שלה, לאורך זמן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בדוק מה יקרה במידה ויתרחש כישלון בכל מצב ובכל סיטואציה הקיימת כיו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בחן האם הנחות הייסוד מוצקות כפי שחשב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שאל את עצמך - מה יכול להשתב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בחן – האם אתה מחליט החלטה פופולארית או החלטה נכונה עבורך? עבור המחלקה שלך? עבור הארגון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בדוק מי יכעס עליך בקבלך החלטה זאת?  האם כעסו דורש את ההתייחסות שלך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אם קבוצה אמורה לסייע לך לקבל החלטה – הקטן השפעה של גורם בודד בקבוצה, על קבלת ההחלט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. סיכו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חלק מתוך ההחלטות שלנו הן אמוציונאליות וחלקן רציונאלי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דחיינות בקבלת החלטות היא הרסני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חלק מאוד גדול של ההחלטות מתקבלות בצורה של "נחליט כי אין ברירה" או במצבים של "נחליט כי בשבועיים הקרובים . . . .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כדאי ושווה להשקיע בקבלת החלטה נכונ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כדאי מאוד להשקיע בכתיבה של "בעד" למול ה"נגד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למד מההצלחות ותחקר כשלונות בקבלת החלט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בכל מקום בו מישהו אומר לך שאתה טועה או עומד לטעות, מומלץ לעצור, במידת האפשר לשם בדיקה חוזרת של ההחלטה שלך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היזהר מהחלטות פופולריות מאוד – לא תמיד הן הנכונות, לא תמיד הן הנכונות עבורך או עבור הארגון שלך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שים לב היטב - ייתכן שדווקא ההחלטות הלא פופוליסטיות – הן הנכונות ביותר הקיימות עבור החברה שלך, עצמך או הארגון בו אתה עובד / אותו אתה מנה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מעט על המרצ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יועץ ארגוני, מנחה סדנאות, מאמן ומדריך למנכ"לים, מנהלים, מנהלי צוותים או מחלקות ולעובדים. בין לקוחותיי: בנקים, חברות ביטוח, משרדי ממשלה, עמותות, חברות עסקיות, מפעלים, תאגידים מקצועיים, יבואני רכב, יבואנים, יצואנים, חברות משפחתיות ועו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עוסק בתחומים הבאים: ניהול, מנהיגות, פיתוח עסקי, ניהול זמן, תקשורת בין אישית, שפת הגוף, מתן שירות, התמודדות עם לקוחות קשים,  פיתוח מנהלים, שדרוג יכולת אמנות המכירה , שיפור יכולת הגבייה ועוד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ליצירת קשר: בועז 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050-5201857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oaz8.co.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. חשיבות נושא – קבלת החלט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נושא קבלת ההחלטות נדרש מאוד בעת קבלת החלטות חשובות מאוד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גם בקבלת החלטות קטנות, ניתן היה למזער טעוי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סך הטעויות הקטנות עולה בכסף רב מאוד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החלטות גדולות חייבות להתקבל בצורה רציונאלי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יש ללמוד לתת משקולות שונות לתהליך קבלת ההחלטה, על פי סדרי העדיפויות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. אקסיומות בקבלת החלט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ככל שתהליך קבלת ההחלטה נכון יותר, הגיוני יותר, רציונאלי יותר, חכם יותר ומושקע יותר – כך עולה הסיכוי כי ההחלטה שקיבלנו נכונ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לעיתים, שינוי של משתנה שלא חשבנו עליו (נחשב  כקבוע ובלתי אפשרי לשינוי) בתהליך קבלת ההחלטות, הופך את ההחלטה הנכונה על פי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ככל שההחלטה גדולה יותר – נדחה את קבלת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haroni"/>
              </a:rPr>
              <a:t>. שיטות קבלת החלט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  <a:cs typeface="Aharoni"/>
              </a:rPr>
              <a:t>השינוי שיקרה בעקבות ההחלטה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החלטה אינקרימנטלית: כמו שהחלטנו בשנה שעברה רק בתוספת של עו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haroni"/>
              </a:rPr>
              <a:t>2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haroni"/>
              </a:rPr>
              <a:t> בלבד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החלטת מהפכנית: זאת החלטה שתשנה את פני האומה ואת פני הדו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בוחנים - בעקבות ההחלטה לא יקרה כלום כי כולם ממתינים להחלטה הבאה שלי שתפר החלטה זא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haroni"/>
              </a:rPr>
              <a:t>מי מקבל את ההחלטה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אני מחליט כי אני הוא בעל התפקיד ואני לא צריך להסביר לאף אחד שום דב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אני חושב שזה נכון: אני מחליט החלטה זאת מאחר ואני חושב שזה נכון שכך אעש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אני מקבל את ההחלטה לבד כי אני הוא בעל התפקיד שאדרש לתת את הדין במקרה ויהיה כישלון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אני מחליט כי אני הסמכות הבכירה ביותר (חוקית או מנהלית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שלי, אני ועל שמי: אני מחליט כי אני רוצה שכולם ידעו שזאת ההחלטה שלי ורק של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טישטוש זהות המחליט: נחליט ביחד כדי שלא יידעו שזאת היתה החלטה או המלצה של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החלטת "בית המשפט": אתן לאדם חיצוני לקבל עבורנו את ההחלטה ולא אני עצמי, כאשר ההחלטה שלו מחייבת את שנינ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haroni"/>
              </a:rPr>
              <a:t>פישור/גישור חיצוני: נעביר את ההחלטה לגורם חיצוני אך ההחלטה שלו איננה מחייבת את הצדדים או אות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haroni"/>
              </a:rPr>
              <a:t>מה יקרה לאחר קבלת ההחלטה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אתם מייד מבצעים את מה שאמרתי לכם, בלי לשאול שאלות מיותר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בצעו את מה שאמרתי לכם אבל אם יש בעיות, תשאלו ואני אמצא דרכים לפתור אותן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אני הוא זה שמחליט אבל אסביר לכם מדוע החלטתי כך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הביצוע של ההחלטה שלי מותנה בהבנה שלכם ובהסכמה שלכ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חשבתי על כל האפשרויות לטעויות או כישלונות כאשר החלטתי החלטה זאת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לא יקרה כלו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haroni"/>
              </a:rPr>
              <a:t>כיצד תתקבל ההחלטה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ריצוי מלא של כולם: אני מקבל החלטה שתגרום לכולם להיות שבעי רצון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על בסיס רגש או תחושת בטן של המשתתפ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על בסיס בדיקה מקיפה של האפשרויות הקיימו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על בסיס בדיקה מקיפה של מינימום נזקים בהחלטה שתתקב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haroni"/>
              </a:rPr>
              <a:t>על בסיס שיקול מוסרי/ חוקי / תקנ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haroni"/>
              </a:rPr>
              <a:t>1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haroni"/>
              </a:rPr>
              <a:t> ועוד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5:37:48Z</dcterms:created>
  <dc:creator>Boaz</dc:creator>
  <dc:description/>
  <dc:language>en-US</dc:language>
  <cp:lastModifiedBy>Boaz</cp:lastModifiedBy>
  <dcterms:modified xsi:type="dcterms:W3CDTF">2006-09-05T05:55:21Z</dcterms:modified>
  <cp:revision>25</cp:revision>
  <dc:subject/>
  <dc:title>קבלת החלטות</dc:title>
</cp:coreProperties>
</file>