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18C-4C23-4A9B-9BAB-CE3E8F45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6EA-1F0A-4AB9-A112-673D136F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65B-A639-4324-8C7B-D62621A7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F34-F47D-4F89-8770-EE8561BE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AB0-A9EB-4AF7-AFD2-E8B83E6E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3D6-12E6-4CAC-B0CE-76372B52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A53-9200-4AC4-962A-F5643777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02A-DDC3-47AC-9914-0C54B8B9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86B-3354-4CE2-B106-4E8B64F2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203-D0A9-4931-A356-F31AF88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25C-47F4-46AE-A648-229B239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3E5-05E1-429B-B0CA-51BEF20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FE6-8031-4512-A299-9C342CBA010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0000"/>
                </a:solidFill>
                <a:latin typeface="Arial"/>
                <a:cs typeface="David"/>
              </a:rPr>
              <a:t>מבוא </a:t>
            </a:r>
            <a:br>
              <a:rPr sz="7200"/>
            </a:br>
            <a:r>
              <a:rPr b="1" lang="he-IL" sz="7200" spc="-1" strike="noStrike">
                <a:solidFill>
                  <a:srgbClr val="ff0000"/>
                </a:solidFill>
                <a:latin typeface="Arial"/>
                <a:cs typeface="David"/>
              </a:rPr>
              <a:t>לאינטליגנציה רגשי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70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רצה: בועז נחמד, תל אבי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50-520185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boaz8.co.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מוטיבציה חייבת להיות לאורך זמ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מוטיבציה חייבת להיות לא רק במצבים מעולים אלא דווקא במצבים קשים, מורכבים,מסובכ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מוטיבציה האמיתית חייבת לבוא לידי ביטוי אחרי משברים או תשובות שליליות או נפיל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עבור מנהלים - משנים ל”מנהיגות” במקום “ניהול”, ובעיקר מוטיבציה ל”מנהיגות מעצבת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ד. אמפתיה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מפתיה אמיתית למול “אמפתיה מתקשרת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קל מאוד: היכולת הבסיסית שלי לגלות אמפיה למצבים שאני מכיר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קשה מאוד: היכולת המשחקית שלי לגלות אמפטיה למול מצבים שאינני מבין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מפתיה עלולה להיתפש כגילוי חולש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מפתיה אסרטיבית: כלי עבודה מעול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ה. התמודדות במערכות יחסים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הכל בסדר – אין שום צורך בשום כל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פרגון קבוע לזולת במערכת היחסים השוטפ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עושים כאשר יש בעיות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צפה של קונפליקטים או דחיינות בטיפול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פיכת קונפליקט ל”מלחמה” או “גישור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דרך בה אחד מגיע לאינטראקציה - קובעת את התוצאה של ההמשך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חשוב מאוד לציין: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השפעה ההדדית שיש בין אנשי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נטליגנציה רגשית היא הדרך בה אני משפיע על הזולת, בשפת הגוף שלי, טון הדיבור שלי, שפת הדיבור שלי וכו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נטליגנציה רגשית היא הדרך בה הזולת משפיע, באותה צורה בדיוק - ע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ניפולציות רגשיות אינן דבר שלילי מיסודו. שוב, כל עוד הן לא הופכות לדרך חיים, שבשגרה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cc"/>
                </a:solidFill>
                <a:latin typeface="Times New Roman"/>
              </a:rPr>
              <a:t>שירות ואינטליגנציה רגשי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שירות לקוחות, במכירות ובניהול הקשר הבין אישי הוא החשוב ביות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תקשורת עם הלקוח, שפת הגוף קובעת לא פחות מהדברים שנאמרו בפוע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ינטליגנציה הרגשית יכולה לסייע לנו להבין טוב יותר את הלקוחות שלנו לשם מתן שירות טוב יותר ולשם יצירת קשרים לאורך זמן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דוגמאות ליישום 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האינטליגנציה הרגשי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. התמודדות נכונה עם קונפליקט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. שימוש בכלי הנכון, בזמן הנכון במינון הנכו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ג. אנרגיות אישיות והנע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ד. חשיבות ההנאה והכי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. המחוייבות האישי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א. התמודדות עם קונפליקט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דחיית ההתמודדות עם קונפליקט למול הצפה של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דיקת הרגשות שלי למול הקונפליקט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דיקה של “סימולציה של הצד השני” לקונפליקט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עולם - לא לזלזל ברגשות של הצד השנ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תור התזמון האולטימטיב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תחילת שיחה יזומה, פרואקטיבית, חיובי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יתכן שיהיה צורך בהוצאת קיטור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ב. השימוש הנכון בכלי הנכו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מנות השימוש בכלי הנכון חייבת להיות כזאת שממלאת אחר מספר תנאים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לי מיומנות בשימוש בכל הכל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יודע להתאים את הכלי הנכון למצב הנכו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 יודע להתאים את הכלי הנכון למצב של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יודע להתאים את הכלי הנכון לזול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משתמש בו במינון הנכו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ג. אנרגיות והנע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Calmness*energy-tension*fatigue=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avid"/>
              </a:rPr>
              <a:t>המכפלה של רוגע ואנרגיות, פחות לחץ ועייפות נותנת את המשוואה למוטיבציה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avid"/>
              </a:rPr>
              <a:t>המשמעות היא כי המוטיבציה מונעת ישירות ממכפלה של רוגע אישי למול אנרגיות אישיות חיוביות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avid"/>
              </a:rPr>
              <a:t>המשמעות היא כי המוטיבציה יורדת בצורה ישירה ככל שהמתח ו/או העייפות עולי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avid"/>
              </a:rPr>
              <a:t>אפשר לראות בקלות רבה אנשים עם אנרגיות חיוביות פנימיות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דם בלי אנרגיות לא רצוי שיעשה: טלמרקטינג, טלמיטינג, שיחות מוטיבציה עם עובדים, פגישת מכירה, פרזנטציה, הדרכה ועוד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עקרונות האינטליגנציה השכלי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זיכרון מעולה – לטווח הקצר ולטווח הארוך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כולת ניתוח נתונ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כולת היק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כולת לימוד של שפה / מוצר / פעולה חדש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דע היקפי בנושאים הרלוונטי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דע כללי רחב מאוד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כולת קבלת החלטות רציונאלי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ארה: </a:t>
            </a:r>
            <a:br>
              <a:rPr sz="4000"/>
            </a:b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חשיבות היכולת לקבל “לא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25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000000"/>
                </a:solidFill>
                <a:latin typeface="Times New Roman"/>
              </a:rPr>
              <a:t>יש חשיבות עליונה ביכולת לקבל תשובה שלילית ולהמשיך לתפקד, להמשיך לתמוך, להמשיך להאמין, להמשיך להיות באותו מקום היכן שהיית, לו קיבלת תשובה חיובי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ד. חשיבות ההנאה והכי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ורה שכיף ללמוד אצלו יצליח להוציא ציונים יותר גבוהים במבחנים של התלמידים של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קום שכיף לעבוד בו, יקבל עובדים נעימים יותר למגע עם הקהל שלה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ית שנעים להיות בו - יורגש מייד עם כניסת האורח לדירה. יהיה יותר קל למכור אותו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עדיף לעשות עסקים עם איש מכירות שמח ונעים, שכיף להיות ליד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ה. החשיבות של המחוייב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*(commitment+accountability)&gt;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המכפלה של ההתחייבות יחד עם האחריות במטרה גדולה מהתנגדויות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המשמעות: מכפלה של שני גורמים - המחוייבות של האדם או הארגון לביצוע יחד עם רמת קבלת האחריות לתוצאות (טובות או רעות) מוכפל במטרה נותן תוצאה שעולה על כל התנגדות שהיא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cc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נטליגנציה רגשית לא באה לבד. יש לצרף לה את המטרה, יעדים, אסטרטגיי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להבין כי אין כאן שום קסם אלא הבנה עמוקה של נפש האד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דווקא התובנות לגבי הסובבים אותנו, יכולות להוביל אותנו לתוצאות נכונות יותר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תוצאות הטובות יותר - דרך בני האדם שסביבנ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מקורות מידע מרכזי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הגורם האנושי בעבודה, טאב ומנהיים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65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מבוא ליחסי עבודה בישראל, שירום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תוצאות, סנדלר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התנהגות ארגונית, בר חיים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גברים ממאדים ונשים מנוגה, גרי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אינטליגנציה רגשית, גולמן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להתווכח ותמיד לנצח, ספנס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שבעת ההרגלים של אנשים אפקטיביים במיוחד, קובי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6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אינטליגנציה רגשית להצלחה בקריירה, גולמן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תבונה ותובנה, קופר וסאווף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אינטליגנציה רגשית להורים, אליאס, טוביאס, פרידלנדר,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אינטליגנציה רגשית בשירות לקוחות, פרימאנטל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חמש עקרונות האינטליגנציה הרגשי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00"/>
                </a:solidFill>
                <a:latin typeface="Times New Roman"/>
              </a:rPr>
              <a:t>א. מודעות עצמ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00"/>
                </a:solidFill>
                <a:latin typeface="Times New Roman"/>
              </a:rPr>
              <a:t>ב. ניהול הרגשו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00"/>
                </a:solidFill>
                <a:latin typeface="Times New Roman"/>
              </a:rPr>
              <a:t>ג. מוטיבציה אישית פנימ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00"/>
                </a:solidFill>
                <a:latin typeface="Times New Roman"/>
              </a:rPr>
              <a:t>ד. אמפתי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00"/>
                </a:solidFill>
                <a:latin typeface="Times New Roman"/>
              </a:rPr>
              <a:t>ה. התמודדות במערכות יחסי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א. דע את עצמ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תחושות שלנו למצבים שונים: התחושות הפנימיות שלנו למצבים שונ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שאנחנו מקרינים במצבים אלו לזול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דפוסי התנהגויות שונים במצבים שונים: האם יש לנו סדרה של אפשרויות פעולה (ארגז כלים מאוד גדול או שיש לנו רק כלי אחד בודד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כולת לימוד של כלי עבודה שונים וחדש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משפיע עלי אישית, על ההתנהגות שלי, על התחושות ש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תי אני לא בר שיחה. מתי אני לא אדם שכיף להיות לידו, מתי אני לא מסוגל לנהל דיאלוג אמית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התנהגות במצבים שונים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עס: מה מרגיז אותנו, איך אנו מתמודדים עם הכעס ביטויים חיצוניים או פנימיים של הכעס, איבוד שליטה במצבי כע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דאגה: מה מדאיג אותנו, כיצד אנו מתפקידים במצבים אלו, מה אנו עושים כנגד ז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מחה: האם אני מראה את זה, האם אני שומר זאת לעצמי, האם אני משחק פני פוקר? מדוע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ב. ניהול רגשות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נק הרגשות- היכולת שלנו לתת בלי לקבל באותו רגע ממ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פרואקטיביות בהתנהגות שלנו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כולת לדחות סיפוקים: האם אני מסוגל לשלוט בדחפים שלי, איך אני עושה זאת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ימוש נבון באמינות אישי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עוצמה הבלתי תאומן של ההקשב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התווכח במערכת יחסים חברית ואוהב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יכולת שלי לנהל את התחושות של העמיתים שלי לעבודה, זוגתי לחיים, ילדי ועוד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</a:rPr>
              <a:t>ג. מוטיבציה אישית פנימית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חשיבה חיובית - זה כן יעבוד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סרטיביות - כלי עבודה מרכז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מוטיבציה האישית שלי ליצור כלי עבודה מדהים לעובדים ש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עד כמה אני מסוגל לקום בבוקר לעבודה, כאשר בחוץ קר מאוד וקפוא מאוד ובבית חמים ונע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שמעת עצמי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3:32:48Z</dcterms:created>
  <dc:creator>w</dc:creator>
  <dc:description/>
  <dc:language>en-US</dc:language>
  <cp:lastModifiedBy>Boaz</cp:lastModifiedBy>
  <dcterms:modified xsi:type="dcterms:W3CDTF">2006-10-23T17:55:05Z</dcterms:modified>
  <cp:revision>47</cp:revision>
  <dc:subject/>
  <dc:title>אינטליגנציה רגשית </dc:title>
</cp:coreProperties>
</file>