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8EA-1A9F-475E-B1E5-3A011D8C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D5D-26D3-4947-A57A-77D5659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D63-B39E-4DDE-9877-B0F14564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C50-12AB-4F56-AC33-CC9AC109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CD9-0C04-48F9-93CD-28FC7182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BE7-B788-411E-95E5-2D57CAB2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0A5-739D-4FBD-AE03-D671A71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214-7F82-452F-9C10-91D836CB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268-47A6-43AD-8FD9-A9C87BED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9B4-6DAC-4FC9-88C1-1D9E73A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177-8FCE-467A-B7B6-7AE0980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6CB-7655-45E2-B8FE-F956C5D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7672-16B7-468E-A0DA-7F552FA93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oaz8.co.il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3333cc"/>
                </a:solidFill>
                <a:latin typeface="Times New Roman"/>
              </a:rPr>
              <a:t>ניהול </a:t>
            </a:r>
            <a:br>
              <a:rPr sz="10600"/>
            </a:br>
            <a:r>
              <a:rPr b="1" lang="hi-IN" sz="10600" spc="-1" strike="noStrike">
                <a:solidFill>
                  <a:srgbClr val="3333cc"/>
                </a:solidFill>
                <a:latin typeface="Times New Roman"/>
              </a:rPr>
              <a:t>משא ומת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19720"/>
            <a:ext cx="6724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רצה: בועז נחמ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5201857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050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boaz8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az8@zahav.net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בסיסי כח בניהול משא ומתן</a:t>
            </a:r>
            <a:br>
              <a:rPr sz="4400"/>
            </a:b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עלפי ה. כה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תחר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חוקי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הסתכנ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מחוייב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מומחי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כרות עם הצרכ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השקע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תגמול או העניש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הזדה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מוסר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תקד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ההתמד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ח כושר השכנוע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שיקולי בחירת אסטרטגיית מו"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המשא ומתן הוא עם קשר מתמשך לאחריו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אוכל לחיות עם הונאה שרימיתי את הצד השני למשא ומתן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המטרה מקדשת את האמצעי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שיקולי מוסר או אתיקה – שיכולים לקבוע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שיקולים חוקיים או נוהליי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שיקולים ניהוליים ישראלים / בינלאומי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שיקולים כספיים (מו"מ עולה כסף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אסטרטגיות בניהול משא ומת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מבין את פירוש המילה "לא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עמדות פתיחה קיצוני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ונאה, רמי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סמכותי מוגבל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טקטיקות ריגו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מוותר בשום צור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צירת תחרות מכוונ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געה למנהל – סמכות ניהול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צרכים מספק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פג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סטה לזווית צדד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יקרה א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תש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ירסו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יומים מפורש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יומים מרומז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צבה מפורשת של אולטימטו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תה חייב לסייע ל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סחטנות רגש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פרגון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ני בעדך ולא נגדך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מפטיה למול הצד השנ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דחיינות בקבלת ההחלט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ג. שלב סגירת המו"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צריך לוודא כי החומר הכתוב זהה לחלוטין למה שנסגר בעל פ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צריך לוודא חוזית כי הצדדים למשא ומתן מזדהים במלוא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וודא כי קיים מסמך בין הצדד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וודא כי קיים מסמך שנחתם בגמירות דעת בין הצדדים השונ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קביעת מועדים סופיים לביצוע, לתחילת העבוד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פשר לפרגן לצד השני על תהליך המשא ומתן שביצע למולנ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אפשר לפרגן לצד השני על התוצאה שהשיג במהלך ה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המלצות חמות לסיום משא ומת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זמן חתימה על הסכם יש לוודא כי הצדדים החותמים הם מורשי החתימ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וודא כי החיוב נערך בהתאם להסכם ז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בדוק, כל שינוי שמבוצע: על פי החוזה / הסכ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יש להחזיק חוזה מקור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לחשוש להפנות את הצד השני לחוזה כאשר יש חשש להרעת מצבך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יהול המשא ומתן עם הלקוחות / ספקים, דורש התארגנות מוקדמת, ידע מקיף, לימוד מקדים, איסוף מידע מודיעיני גלוי וסמו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שא ומתן עצמו הוא תהליך לו מספר כללים ידועים ומוכרים מרא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תהליכים אלו הינם תמהילי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ומלץ להתכונן מראש ל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ומלץ להתכונן מראש לכל התסריטים האפשרי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שלבי המשא ומת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Times New Roman"/>
              </a:rPr>
              <a:t>א. ההכנה למשא ומתן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Times New Roman"/>
              </a:rPr>
              <a:t>ב. ניהול המשא ומתן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Times New Roman"/>
              </a:rPr>
              <a:t>ג. סגירת המו"מ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ספרים מומלצים במיוח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שא ומתן מוצלח, ר.ב. מאדוקס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ספר המשא ומתן, ה. כהן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התווכח ותמיד לנצח, ג'. ספנס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עוצמה והשפעה, ר ל דילנשניידר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בעת ההרגלים של אנשים אפקטיביים במיוחד, ס קובי,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9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תוצאות, א. סנדלר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מול מי מנהלים משא ומת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ספק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עובד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החברים והשותפים לעבוד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הלקוח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הילדים שלנ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ההורים שלנו, של בת/בן הזוג שלנ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ול שכנים / מורים של הילד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א. שלב ההכנה למשא ומת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הן המטרות שלנו לטווח הקצר והטווח הארוך ממשא ומתן ז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הן הנקודות המרכזיות אותן אפשר להעלות על שולחן הדיונים במהלך ה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יהיו נקודות שיוסתרו במהלך המשא ומתן ואותן נגלה רק לקראת סוף המשא ומתן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בחן - האם יש תחליף ללקוח / ספק עובד זה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על מה אני אהיה מוכן לוותר (ויתור טקטי או ויתור אמיתי) ומתי להציג את הויתור הז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ם כדאי לי להצטייר בעיני הצד השני כמוותר או נסוג או כבעל עוצמה, שררה וכח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יכן - פיזית - יתקיים המשא ומתן הז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ם המו"מ הוא טלפוני או פרונטא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י אנשים אלו, מהם התפקידים שלהם, למה הביאו אותם ולא הביאו אנשים אחרים, מה התפקיד הלא רשמי שלהן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אני מזהה שמנהלים איתי מו"מ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קיימת עבורי הזדמנות לנהל 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בדוק על מה אתה מוכן לוותר בלי שום בעיה וכיצד להציג את זה במהלך ה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מול מי אני מנהל מו"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שמו המלא של העמית שלי למו"מ. הכינויים שמכנים אותו בארגו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תפקידו הפורמאלי והלא פורמא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מירב הפרטים האישיים לגביו: גיל, משקל, אופי, סגנון התנהגות, רכב בו הוא נוהג, וע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יכולת ו/או סגנון ניהול המשא ומתן שלו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אדם זה הוא הסוגר הסופי והמחליט הסופי והאחרו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למה שמו אותו דווקא מולנו במשא ומת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האם אנו נשים אותו דרג למול הדרג המקביל של המשא ומתן שמתקיים מולנו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ב. שלב ניהול המשא ומת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יהיו שלבי המשא ומתן בצד השנ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כמה זמן עומד לרשותי לנהל את המשא ומתן הז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יהיו בסיסי הכח שלי / של הצד השנ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תהיה האסטרטגיה שלי / של הצד השנ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ן הנקודות בהן הצד השני יוכל להפתיע אות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 אני לא יודע ומה אני לא מכיר על הצד השנ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06:20:00Z</dcterms:created>
  <dc:creator>משתמש Microsoft Office מרוצה</dc:creator>
  <dc:description/>
  <dc:language>en-US</dc:language>
  <cp:lastModifiedBy>Boaz</cp:lastModifiedBy>
  <dcterms:modified xsi:type="dcterms:W3CDTF">2006-09-25T07:39:26Z</dcterms:modified>
  <cp:revision>22</cp:revision>
  <dc:subject/>
  <dc:title>ניהול  משא ומתן</dc:title>
</cp:coreProperties>
</file>