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0B57-3092-4AC7-BDBE-63AA8C96C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3E2E-3BCB-4617-9B55-AEB2D4D30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DF75-A645-45A6-B636-EAC71CB0B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1E3D-8A37-45B5-B947-92A6A3C80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9997-CBA9-4C52-9049-37B97C03C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783E-ADF7-4D09-8351-C35CBC746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4900-D3E3-4B40-AC09-ED6E32C6B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9D11-ED5A-4308-946D-8C0BF735E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52BC-3A46-45CC-905D-C3B21B4C3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097A-3916-4503-B7E5-F5DE1404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CC58-EF6C-4073-8CC5-96A673C9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CA55-0DCE-427C-9509-BAB16A6E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E8183-1A10-4786-860F-43DB1E14A388}" type="slidenum"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800" spc="-1" strike="noStrike">
                <a:solidFill>
                  <a:srgbClr val="000000"/>
                </a:solidFill>
                <a:latin typeface="Times New Roman"/>
              </a:rPr>
              <a:t>גביית חובות - </a:t>
            </a:r>
            <a:br>
              <a:rPr sz="8800"/>
            </a:br>
            <a:r>
              <a:rPr b="1" lang="he-IL" sz="8800" spc="-1" strike="noStrike">
                <a:solidFill>
                  <a:srgbClr val="000000"/>
                </a:solidFill>
                <a:latin typeface="Times New Roman"/>
              </a:rPr>
              <a:t>ניהול משא ומתן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בועז נחמד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ww.boaz8.co.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50-520185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az8@zahav.net.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משלוח גובים פיזיים (יודגש – ללא שום אפשרות לאלימות פיזית או מילולית באשר היא) לבית / משרד הלקוח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אתר נקודות חולשה אצל הלקוח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שים לב כי סיבה אחרי סיבה לאי תשלום = תירוצים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וודאי כי החייב לא מרדים אותך ומטשטש אותך במהלך הניהול משא ומתן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דרוש תשלום מיידי, כאן ועכשיו של כל החוב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נהל את המשא ומתן עצמו למול החייב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762120" y="28195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“מתי לבוא? עכשיו או בעוד שעתיים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“אני מבין שהשיק שלי מוכן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“אני התקשרתי לגבות את החוב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“המנהל שלי רוצה לתבוע אותך, אני אמרתי לו שאולי בכל זאת תשלם ותסיים את כל הפרשה. . "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45720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000000"/>
                </a:solidFill>
                <a:latin typeface="Times New Roman"/>
              </a:rPr>
              <a:t>תסריטים יעילים לניהול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000000"/>
                </a:solidFill>
                <a:latin typeface="Times New Roman"/>
              </a:rPr>
              <a:t>משא ומתן עם חייב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"מה אתה היית עושה במקומי עם לקוח שלך לא היה משלם לך </a:t>
            </a: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70,000</a:t>
            </a: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 שקלים כמעט שבועיים ברציפות?"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"איך אני בכל זאת מקבל ממך את הכסף?"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"אני בא עכשיו לקחת את הכסף"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"יש לי עובד שגר בצופית, הוא יקפוץ אליך בערב להביא את הכסף ממך"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"אם אני מבין נכון הרי שביום רביעי הקרוב, כל הכסף יגיע אלי במזומן?"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"לוחצים עלי להביא את הכסף שלך"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000000"/>
                </a:solidFill>
                <a:latin typeface="Times New Roman"/>
              </a:rPr>
              <a:t>ד. דרכי תשלום של חייבי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כרטיס אשראי באמצעות הטלפון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כרטיס אשראי של צד ג'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העברה בנקאית באותו רגע 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העברה בנקאית פעמיים בחודש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שיקים מוסבים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שיקים של הלקוח עצמו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שיקים עתידיים- פריסת החוב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000000"/>
                </a:solidFill>
                <a:latin typeface="Times New Roman"/>
              </a:rPr>
              <a:t>סיכו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חשיבות גבוהה מאוד להבנה של תהליך קבלת ההחלטות של החייבים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אסרטיביות כמילת מפתח - חשובה מאוד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לנהל משא ומתן נחוש מאוד על כל גובה החוב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לא לוותר על מחיר אי תשלום (ריבית, הצמדה, קנס) וכדומה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תמיד - לכוון גבוה ולהיות נחושים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000000"/>
                </a:solidFill>
                <a:latin typeface="Times New Roman"/>
              </a:rPr>
              <a:t>עיקרי ההדרכ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תיאור אסטרטגיות המנעות מתשלום של החייבי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תיאור תיעדוף החייבים של תשלום מסויי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הצעה לשיטות גבייה וניהול משא ומתן עם לקוחות חייבי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תיאור מלוא דרכי התשלום של הלקוחות החייבי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000000"/>
                </a:solidFill>
                <a:latin typeface="Times New Roman"/>
              </a:rPr>
              <a:t>א. חייב פרטי - דרכי הימנעות מתשלומי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אין לי כרגע כס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אני לא יכול לשל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אני לא רוצה לשל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אני רוצה לשלם אבל לא יכו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פטרו אותי מהעבוד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אני אתאב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אין לי במה להאכיל את הילדים שלי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000000"/>
                </a:solidFill>
                <a:latin typeface="Times New Roman"/>
              </a:rPr>
              <a:t>א. חייב עסקי - דרכי הימנעות מתשלומי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אין מי שיחתום על השיק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אין אישור לתשלו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הקפאנו את כל התשלומים לכל הספקי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אנחנו משלמים שוטף + </a:t>
            </a: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הנהלת חשבונות ספקים מקבלת בין </a:t>
            </a: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09:00-09: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המנכ”ל בחו”ל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לא שילמו לנו ולכן לא שילמנו לכ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000000"/>
                </a:solidFill>
                <a:latin typeface="Times New Roman"/>
              </a:rPr>
              <a:t>ב. תיעדוף תשלום מצד החייבי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ישלמו על פי מי שלוחץ יותר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ישלמו על פי מי שהם צריכים אותו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ישלמו על פי מי שמנדנד יותר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ישלמו על פי הגעה פיזית אליהם הביתה / לעסק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מהירות תגובה מהירה - תשלום מלא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ישלמו על פי מי שיותר מסכן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000000"/>
                </a:solidFill>
                <a:latin typeface="Times New Roman"/>
              </a:rPr>
              <a:t>ב. העדר תיעדוף מצד החיי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כאשר לבעל החוב לא אכפת מהחוב שלו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ככל שבעל החוב הוא ארגון / עסק גדול יותר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כאשר הארגון לא מנדנד לקבל את הכסף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כאשר מועבר ללקוח מסר סמוי שלא באמת צריכים לשלם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כאשר הלקוח החייב ממשיך לקבל שירות למרות שלא שילם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כאשר התגובה לאי התשלום היא מאוד חלשה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כאשר התגובה לאי התשלום מגיעה באיחור רב ממועד אי התשלום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כאשר יש הסכמה בשתיקה מצד מנהלי החברה לה הוא חייב את הכסף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כאשר פעילות ההוצאה לפועל למולו חלשה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כאשר עורך הדין של הזוכה מתמסמס עם הטיפול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000000"/>
                </a:solidFill>
                <a:latin typeface="Times New Roman"/>
              </a:rPr>
              <a:t>ג. אסטרטגיית משא ומתן מומלצ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שיחה אסרטיבית מאוד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רמת נחישות גבוהה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לא מקבלים “לא” כתשובה על אי גבייה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מהירות תגובה – מיידית לאחר אי התשלום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הפעלה של שני גובים למול אותו חייב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להעלות את הלחץ הפנימי על הגובה עצמו להביא את כל הכסף מהחייב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000000"/>
                </a:solidFill>
                <a:latin typeface="Times New Roman"/>
              </a:rPr>
              <a:t>ניהול מו”מ עם חיי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וודא הכרה בחוב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כוון גבוה את גובה התשלום עצמו ואת מועד קבלת אמצעי התשלום ואת מועד התשלום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הגעה עם הלקוח לתשובה “על מה אנחנו  מסכימים ביננו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כרסם בכל הדברים של הלקוח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התמדה - עלוקה - קרציה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שימוש גבוה במנהל / סמכות ניהולית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5T11:22:24Z</dcterms:created>
  <dc:creator>w</dc:creator>
  <dc:description/>
  <dc:language>en-US</dc:language>
  <cp:lastModifiedBy>Boaz</cp:lastModifiedBy>
  <dcterms:modified xsi:type="dcterms:W3CDTF">2006-09-05T05:52:59Z</dcterms:modified>
  <cp:revision>15</cp:revision>
  <dc:subject/>
  <dc:title>טלקולקטינג  גבייה טלפונית</dc:title>
</cp:coreProperties>
</file>