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2A7AC-A28E-4156-BA83-6BE8E2D49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DE30-C6AB-4CE5-BEEB-F4C71B597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6EF8C-2A58-4B9B-BE18-ADD1B743F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514F6-0698-4AC5-985E-40FDCE2D2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2882E-ACEA-434C-80B9-53CC57204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5A226-5F8E-49AA-91DC-4F0C0D384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C9FB9-1383-4C20-8D97-D17748D3C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CD5C4-AD54-4703-A5F8-137029B3B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11489-2126-4409-A47A-F717A10B7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73D23-00FB-4481-AA42-EE88A4222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1C00-D14E-4D67-8586-F0595EFEF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A4143-73C8-4721-A155-038FBBF18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2312-0740-4C29-B0AA-6B8AFFD9BE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000"/>
            <a:ext cx="7772400" cy="360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8000" spc="-1" strike="noStrike">
                <a:solidFill>
                  <a:srgbClr val="000000"/>
                </a:solidFill>
                <a:latin typeface="Arial"/>
              </a:rPr>
              <a:t>תיעדוף משימות </a:t>
            </a:r>
            <a:br>
              <a:rPr sz="8000"/>
            </a:br>
            <a:r>
              <a:rPr b="1" lang="he-IL" sz="8000" spc="-1" strike="noStrike">
                <a:solidFill>
                  <a:srgbClr val="000000"/>
                </a:solidFill>
                <a:latin typeface="Arial"/>
              </a:rPr>
              <a:t>וניהול זמן</a:t>
            </a:r>
            <a:endParaRPr b="0" lang="en-US" sz="8000" spc="-1" strike="noStrike">
              <a:solidFill>
                <a:srgbClr val="000000"/>
              </a:solidFill>
              <a:latin typeface="Arial"/>
            </a:endParaRPr>
          </a:p>
        </p:txBody>
      </p:sp>
      <p:sp>
        <p:nvSpPr>
          <p:cNvPr id="42" name="PlaceHolder 2"/>
          <p:cNvSpPr>
            <a:spLocks noGrp="1"/>
          </p:cNvSpPr>
          <p:nvPr>
            <p:ph type="subTitle"/>
          </p:nvPr>
        </p:nvSpPr>
        <p:spPr>
          <a:xfrm>
            <a:off x="1332000" y="46530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מרצה: בועז נחמד</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 </a:t>
            </a:r>
            <a:r>
              <a:rPr b="1" lang="en-US" sz="3200" spc="-1" strike="noStrike">
                <a:solidFill>
                  <a:srgbClr val="000000"/>
                </a:solidFill>
                <a:latin typeface="Arial"/>
              </a:rPr>
              <a:t>www.boaz8.co.il</a:t>
            </a:r>
            <a:r>
              <a:rPr b="1" lang="he-IL" sz="3200" spc="-1" strike="noStrike">
                <a:solidFill>
                  <a:srgbClr val="000000"/>
                </a:solidFill>
                <a:latin typeface="Arial"/>
              </a:rPr>
              <a:t>  </a:t>
            </a:r>
            <a:r>
              <a:rPr b="1" lang="en-US" sz="3200" spc="-1" strike="noStrike">
                <a:solidFill>
                  <a:srgbClr val="000000"/>
                </a:solidFill>
                <a:latin typeface="Arial"/>
              </a:rPr>
              <a:t>050 -5201857</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az8@zahav.ne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קביעת המטרה המשותפת</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חשוב מאוד לקבוע לכל הארגון מטרה אחת משותפת.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חשוב מאוד לקבוע לכל מחלקה בארגון מטרות קצרות מועד או יעדים ספציפיים שיתמכו בהגדרה ארגונית רחבה זאת של המטרה המשותפת.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ייתכנו מטרות מנוגדות אחת לשניה – אך הסך הכל של המטרות והיעדים – מוביל לקידום המטר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כל פעולה של זמן – נמדדת לפי האפטקיביות שלה למול השגת המטר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ניהול זמן</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בניהול זמן מוודאים כי המשימות שהוטלו יבוצעו לאורך זמן.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לאורך זמן יש נטייה למשימות ארוכות טווח להתמוסס ואולי אפילו להישכח.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יש לבצע פיקוח ובקרה על משימות אלו.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ללא פיקוח ובקרה עצמית – הזמן עלול פשוט "לברוח" ולהיעל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דחוף למול חשוב</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מהי הנטיה הטבעית של כל ארגון, מנהל, עובד? כמובן – לעשות את הדברים עלפי סדר הדחיפות שלהם.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או . . .  על פי סדר הכניסה שלהם.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ברם, יש מטריצה של דחוף למול חשוב – ועל פיה צריך לפעול.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אגב, יש נטיה לדחות דברים חשובים עד שהם הופכים להיות לדחופים ואז ורק אז לטפל בה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ילדותיות ארגונית – מעכב הצלחה</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מחשיבים מאוד את האגו האישי.</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בכיינו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דיבורים בלי הפסקה על דברים שלא רלוונטיים – תוך הפרעה לארגון לפעול כסידרו (במקרים קיצוניים).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מתנגדים למה שלא מסכימים.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מאפשר לעובדים לדחות קבלת החלטות שלא מוצאות חן ולא נראות לה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איתור גזלני זמן</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תמיד, אבל כמעט תמיד, הגזלן זמן לא מאותר בזמן.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מה שמאפיין אותו הוא שנהנים להיות לידו אך הוא לא מקדם את המטרה.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הוא יכול להיות לקוח, ספק, עובד, מנהל, שכן, עורך הדין של החברה, רואה חשבון, מבקר אורח ועוד.</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בארגון עצמו, לא קולטים כי הוא גוזל זמן יקר.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לעיתים – הוא/היא יגזלנו את זמנו של יותר מאשר מנהל או עובד אח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התמודדות אסרטיבית עם גזלני זמן</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אם לא מאתרים אותם – לא ניתן לטפל בהם.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קיימת חשיבות ארגונית עליונה לטיפול בגזלני זמן.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מאחר והם לעיתים לקוחות או עובדים – יש לטפל בהם באסרטיביות אישית.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יש להמנע ככל הניתן מיצירת סטיגמה על לקוח זה או אחר כעל גזלן זמן.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זכור את נושא התיעדוף בבואך לטפל בגזלן זמן. העדף אי נעימות על בזבוז משאבי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בנוסף . . . .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חשוב מאוד לקבוע לכל פעולה מועד סיום.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חשוב מאוד להגדיר בצורה ברורה מאוד את הקווים האדומים של ניהול הזמן.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חשיבות עליונה לביצוע מעקבים אחרי קבלת החלטו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מי שצריך לדעת לנהל זמן זה המנהל – לאחריו ינהלו את הזמן הסמנכ"לים שלו, אנשי המכירות שלו, מנהלי השירות ועו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הבטחות צריך לקיים?  מעקב אחרי הבטחות עתידיות שניתנו על ידי ניהול יומן חכם.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רישום נכון ואמיתי של כל בקשות ודרישות וצרכי המנכ"ל / המנהל.</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ושוב – מעקב אחרי ביצוען של החלטות אל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6000"/>
          </a:bodyPr>
          <a:p>
            <a:pPr marL="32904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rPr>
              <a:t>הסוד האמיתי: </a:t>
            </a:r>
            <a:endParaRPr b="0" lang="en-US" sz="3600" spc="-1" strike="noStrike">
              <a:solidFill>
                <a:srgbClr val="000000"/>
              </a:solidFill>
              <a:latin typeface="Arial"/>
            </a:endParaRPr>
          </a:p>
          <a:p>
            <a:pPr marL="32904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rPr>
              <a:t>להצליח לנהל זמן גם בעוד שלוש שנים ולא רק יומיים מתום סדנא זאת; להצליח לגרום לכל הארגון לפעול בשיטות אלו – לכולם, תמיד, למול הלקוחות, ספקים, מנהלים ועובדי החברה עצמם. </a:t>
            </a:r>
            <a:endParaRPr b="0" lang="en-US" sz="3600" spc="-1" strike="noStrike">
              <a:solidFill>
                <a:srgbClr val="000000"/>
              </a:solidFill>
              <a:latin typeface="Arial"/>
            </a:endParaRPr>
          </a:p>
          <a:p>
            <a:pPr marL="32904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rPr>
              <a:t>בהצלחה. </a:t>
            </a:r>
            <a:endParaRPr b="0" lang="en-US" sz="3600" spc="-1" strike="noStrike">
              <a:solidFill>
                <a:srgbClr val="000000"/>
              </a:solidFill>
              <a:latin typeface="Arial"/>
            </a:endParaRPr>
          </a:p>
          <a:p>
            <a:pPr marL="32904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מרצה: בועז נחמד  </a:t>
            </a:r>
            <a:r>
              <a:rPr b="0" lang="he-IL" sz="2400" spc="-1" strike="noStrike">
                <a:solidFill>
                  <a:srgbClr val="000000"/>
                </a:solidFill>
                <a:latin typeface="Arial"/>
              </a:rPr>
              <a:t>050-5201857</a:t>
            </a:r>
            <a:r>
              <a:rPr b="0" lang="he-IL" sz="2400" spc="-1" strike="noStrike">
                <a:solidFill>
                  <a:srgbClr val="000000"/>
                </a:solidFill>
                <a:latin typeface="Arial"/>
              </a:rPr>
              <a:t>, </a:t>
            </a:r>
            <a:r>
              <a:rPr b="0" lang="en-US" sz="2400" spc="-1" strike="noStrike">
                <a:solidFill>
                  <a:srgbClr val="000000"/>
                </a:solidFill>
                <a:latin typeface="Arial"/>
              </a:rPr>
              <a:t>boaz8@zahav.net.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דגשים מהדרכה זאת</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כל משימה באה עם רמת תיעדוף משל עצמה.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לכל משימה שלא הודבק לה תיעדוף – לא תבוצע.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הזמן נמצא במחסור תמידי.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הזמן עובר מאוד מהר כשנהנים.</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חשיבות קביעת המטרה המשותפת האחידה.</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פערים גדולים מאוד בין דחוף לבין חשוב.</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חשיבות איתור גזלני זמן.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חשיבות טיפול אסרטיבי בגזלני זמ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כל הזכויות </a:t>
            </a:r>
            <a:r>
              <a:rPr b="1" lang="hi-IN" sz="4400" spc="-1" strike="noStrike" u="sng">
                <a:solidFill>
                  <a:srgbClr val="000000"/>
                </a:solidFill>
                <a:uFillTx/>
                <a:latin typeface="Arial"/>
              </a:rPr>
              <a:t>אינן</a:t>
            </a:r>
            <a:r>
              <a:rPr b="1" lang="en-US" sz="4400" spc="-1" strike="noStrike">
                <a:solidFill>
                  <a:srgbClr val="000000"/>
                </a:solidFill>
                <a:latin typeface="Arial"/>
              </a:rPr>
              <a:t> שמורות למחבר</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הזכויות של טקסט זה, חומר זה, תובנות אלו, והבוננויות הנמצאות במצגת זאת אינם נחלתו של המרצה ולכן רצוי, מותר, אפשרי וגם ניתן לשכפל ולהדפיס ולצלם מידע זה ולהפיץ אותו לכמה שיותר אנשים, חברות, ארגונים ותרבויות ניהוליות שונות.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בברכת הצלחה רבה בשמירה על ניהול זמן אפקטיבי,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בועז נחמ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הזמן נמצא במחסור תמידי</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הזמן נמצא במחסור.</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הזמן הוא משאב.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לא ניתן להשתמש באותה יחידת זמן לשתי מטרות בו זמנית.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מנהל עסוק – זה מנהל לא אפקטיבי.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העלות האמיתית של הזמן – עפ"י העלות של הזמן האלטרנטיבי שלו – מה ניתן היה לעשות במקום זאת, בתמורה, באותו פרק זמ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rPr>
              <a:t>תיעדוף משימות</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כל משימה שמגיעה דורשת רמת תיעדוף מתאימה: תיעדוף עצמי ותיעדוף למול משימות אחרות שהגיעו לפניה או יגיעו אחריה.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כל משימה שמגיעה בלי מדבקת תיעדוף עלולה שלא להיות מבוצעת.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יש לבצע בדיקה מסודרת של רמת התיעדוף למול מי שהעביר בקשה זאת.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אין להחליט במקומו בשום צור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rPr>
              <a:t>תיעדוף משימות – ב'</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ההמלצות האופרטיביות הן לוודא כי כל משימה שהוטלה עלינו מקבלת את התיעדוף העצמאי שלה.</a:t>
            </a:r>
            <a:endParaRPr b="0" lang="en-US" sz="3200" spc="-1" strike="noStrike">
              <a:solidFill>
                <a:srgbClr val="000000"/>
              </a:solidFill>
              <a:latin typeface="Arial"/>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כל משימה שמוטלת עלינו צריכה לקבל את התיעדוף היחסי שלה.</a:t>
            </a:r>
            <a:endParaRPr b="0" lang="en-US" sz="3200" spc="-1" strike="noStrike">
              <a:solidFill>
                <a:srgbClr val="000000"/>
              </a:solidFill>
              <a:latin typeface="Arial"/>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האחריות על קבלת התיעדוף מוטלת על מקבל המשימה ולא על נותן המשימה. אם מקבל המשימה לא קיבל, ביחד עם המשימה את התיעדוף, עליו לוודא זאת למול נותן המשימה.  </a:t>
            </a:r>
            <a:endParaRPr b="0" lang="en-US" sz="3200" spc="-1" strike="noStrike">
              <a:solidFill>
                <a:srgbClr val="000000"/>
              </a:solidFill>
              <a:latin typeface="Arial"/>
            </a:endParaRPr>
          </a:p>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אפקטיביות ויעילות של משימות</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000000"/>
                </a:solidFill>
                <a:uFillTx/>
                <a:latin typeface="Arial"/>
              </a:rPr>
              <a:t>אפקטיביות:</a:t>
            </a:r>
            <a:r>
              <a:rPr b="1" lang="he-IL" sz="3200" spc="-1" strike="noStrike">
                <a:solidFill>
                  <a:srgbClr val="000000"/>
                </a:solidFill>
                <a:latin typeface="Arial"/>
              </a:rPr>
              <a:t> </a:t>
            </a:r>
            <a:endParaRPr b="0" lang="en-US" sz="3200" spc="-1" strike="noStrike">
              <a:solidFill>
                <a:srgbClr val="000000"/>
              </a:solidFill>
              <a:latin typeface="Arial"/>
            </a:endParaRPr>
          </a:p>
          <a:p>
            <a:pPr marL="3258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שאלה אחת ובסיסית ביותר: האם השגנו את המטרה שלנו. אם לא, לא היינו אפקטיביים (מוכר יותר כפול גז בניוטראל). </a:t>
            </a:r>
            <a:endParaRPr b="0" lang="en-US" sz="3200" spc="-1" strike="noStrike">
              <a:solidFill>
                <a:srgbClr val="000000"/>
              </a:solidFill>
              <a:latin typeface="Arial"/>
            </a:endParaRPr>
          </a:p>
          <a:p>
            <a:pPr marL="3258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000000"/>
                </a:solidFill>
                <a:uFillTx/>
                <a:latin typeface="Arial"/>
              </a:rPr>
              <a:t>יעילות:</a:t>
            </a:r>
            <a:r>
              <a:rPr b="1" lang="he-IL" sz="3200" spc="-1" strike="noStrike">
                <a:solidFill>
                  <a:srgbClr val="000000"/>
                </a:solidFill>
                <a:latin typeface="Arial"/>
              </a:rPr>
              <a:t> </a:t>
            </a:r>
            <a:endParaRPr b="0" lang="en-US" sz="3200" spc="-1" strike="noStrike">
              <a:solidFill>
                <a:srgbClr val="000000"/>
              </a:solidFill>
              <a:latin typeface="Arial"/>
            </a:endParaRPr>
          </a:p>
          <a:p>
            <a:pPr marL="3258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האם השתמשנו וניצלנו את המשאבים שעמדו לרשותנו בצורה כזאת, בה לא ניתן היה, על ידי שינוי בניצול משאבים אלו, להשיג את המטרה ברמה יותר גבוהה. אם לא, לא היינו יעילי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דחוף וחשוב</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כל משימה רצה על פני שני צירים</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ציר הדחיפות שלה: עד כמה משימה זאת דחופה לארגון או למקבל ההחלטו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ציר החשיבות שלה: עד כמה משימה זאת חשובה למקבל ההחלטות ולארגון.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כל משימה יכולה לקבל את אחד מתוך ארבעת המקומות על פני צירים אל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יש לזכור. . . .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אסור להחליט במקומו של מקבל ההחלטות לגבי תיעדוף המשימו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אסור לקבל משימה בלי לוודא את מקומה האבסולוטי ומקומה היחסי.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חייבים לשאול, לבקש, לדבר להתייעץ – עם מעביר המשימ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הזמן עובר מהר כשנהנים . . . .</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כאשר הארגון נהנה – הזמן עובר מאוד מהר. אותו דבר לגבי עובדים, מנהלים, ספקים, אורחים ולקוחות.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בשעה שהזמן "טס", פעולות אחרות לא בוצעו.</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קשה מאוד לאמוד את פרק הזמן שעבר.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קשה מאוד לתת הערכה לפרק הזמן שפעולה מסויימת או פרוייקט ספציפי ייארך.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זה לא אומר שצריך להפסיק להנות אלא שצריך להתחיל לחשב נכון את הזמ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1T13:24:01Z</dcterms:created>
  <dc:creator>Boaz</dc:creator>
  <dc:description/>
  <dc:language>en-US</dc:language>
  <cp:lastModifiedBy>Boaz</cp:lastModifiedBy>
  <dcterms:modified xsi:type="dcterms:W3CDTF">2008-04-19T06:33:31Z</dcterms:modified>
  <cp:revision>19</cp:revision>
  <dc:subject/>
  <dc:title>ניהול זמן</dc:title>
</cp:coreProperties>
</file>