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640" y="6237000"/>
            <a:ext cx="43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באדיבות האתר הישראלי לשירות לקוחות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c-service.co.i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info@c-service.co.i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403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2421000"/>
            <a:ext cx="3960720" cy="4970160"/>
          </a:xfrm>
          <a:prstGeom prst="rect">
            <a:avLst/>
          </a:prstGeom>
          <a:noFill/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ff0000"/>
                </a:solidFill>
                <a:latin typeface="Arial"/>
              </a:rPr>
              <a:t>מודל בחמישה שלבים  לטיפול יעיל בלקוחות קשי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he-IL" sz="2800" spc="-1" strike="noStrike">
                <a:solidFill>
                  <a:srgbClr val="333399"/>
                </a:solidFill>
                <a:latin typeface="Arial"/>
              </a:rPr>
              <a:t>ע"פ הספר" הלקוח תמיד צודק" </a:t>
            </a:r>
            <a:br>
              <a:rPr sz="2800"/>
            </a:br>
            <a:r>
              <a:rPr b="1" i="1" lang="he-IL" sz="2800" spc="-1" strike="noStrike">
                <a:solidFill>
                  <a:srgbClr val="333399"/>
                </a:solidFill>
                <a:latin typeface="Arial"/>
              </a:rPr>
              <a:t>כתב- בועז נחמד</a:t>
            </a:r>
            <a:r>
              <a:rPr b="1" i="1" lang="he-I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www.boaz8.co.il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oaz8@zahav.net.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221760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שלב שני-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שלב ההרגע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קיימות שתי טכניקות בסיסיות בשלב זה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מתן לגיטימציה לכע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שימוש במשפטים כמו: " אני מתאר לעצמי שהרגשת שרימינו אותך" ... "אני מניח שהכעס שלך נובע מזה שלא קיבלת את המוצר בזמן.." אני מניח כי לא עמדנו בציפיותיך.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ב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גילו אמפתיה למצב הלקוח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ימוש במשפטים כמו: "אין לי ספק כי במקומך הייתי מרגיש אותו דבר.." לפי הכעס שלך אתה עדיין לא מרוצה מהתוצאה- אני צודק? 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הערות חשובות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ל תנסה "להבין" את המניעים "הפסיכיאטריים" של הלקוח הגורמים לו לכעו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ל תשתמש בביטוי " הבעיה שלך" השתמש בביטוי : "הבנתי נכון את הדברים שלך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ל תשתמש במשפט.." אני מכיר את הבעיה הזאת.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לגבי הבעיה שלך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ל תשתמש במשפט.." זאת הפעם הראשונה שאני נתקל בבעיה הזאת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 rtl="1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שלב שלישי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שלב הרשו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שלב שבו נותן השירות מבקש ומקבל רשות לפתור את הבעיה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הסכמה משותפת תוביל לפתרון חיוב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אל תעשה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אל תשתמש בביטוים "מדכאי כעס" כגון- "עד שלא תפסיק לצעוק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אל תתקיף את הלקוח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חזרה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אל תנהל אל מול הלקוח "חשבונות מהעבר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אל תאשים את הלקו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אל תתייחס ללקוח בזלזול.." האם קראת את ההוראות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שלב רביעי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שלב הפתרו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בדיקת ציפיות הלקוח – באמצעות שאל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צעת פיתרו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אל תעשה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ל תציע פתרון אשר נועד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רא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לכישלון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ל תציע את הפיצוי הגבוה ביות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שמור על היררכיה של גובה הפיצויים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למקרה של מו"מ מתמשך..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שלב חמישי-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שלב הידו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ניתן ליידע את הלקוח במספר אופנים: ידוע מיידי, טלפוני או מכתב. אם נאשמה צודקת – חשוב להודות לו על פנייתו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ל תעשה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ל תחנך את הלקו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ל תהיה זה שאומר את המילה האחרו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ת תאשים אחרים ).. אנחנו מכירים את הפקידה הזאת.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אל תאמר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: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זאת לא הפעם הראשונה שאתה מתלונן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0000"/>
                </a:solidFill>
                <a:latin typeface="Arial"/>
              </a:rPr>
              <a:t>לסיכום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לקוח זועם הוא לקוח המצית אש בשדה קוצי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ישאר כל הזמן רגוע , אך לא באופן שישאיר רושם של התנשאות כלפי הלקו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ייה נאמן לחברה בה אתה עובד וגבה את צוותך ועמיתך בכל ע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2205000"/>
            <a:ext cx="7848720" cy="4237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מאמרים וטיפים נוספים ניתן למצוא באתר הישראלי לשירות לקוחות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ww.c-service.co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שנה את המצגת לצרכי הארגון וערוך ישיבת צוות בנוש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בהצלחה!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תודתי נתונה לבועז נחמ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שאלות,בקשות והערות ניתן לשלוח ל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fo@c-service.co.i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34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טיפים לשימוש במצג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שתמש/י במצגת בישיבות צוות , ישיבות הנהלה וכדומ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שנה/י את המצגת בהתאם לצרכי הארגון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שתמש/י במצגת כבסיס לרעיון אשר ברצונך להעבי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שלב/י את המצגת בהדרכות שירות בארגון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מצגת זאת מלווה ע"י מאמר המחבר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בהצלחה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7054920" cy="31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נושאי המצג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מטרות המודל לטיפול בלקוחות קש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הצגת הנחות היסוד  למודל ז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מודל חמשת השלבים דגשים שחשוב לדעת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05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שאלות לדיון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מהם לדעתכם הסיבות המובילות את הלקוח – להיות לקוח זוע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אם לדעתכם קיימים סוגי לקוחות זועמי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ספרו מניסיונכם כיצד אתם מתמודדים עם לקוח זוע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ה עלול להרגיז לקוח כועס, להרגיז אותו עוד יותר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2700360" y="1197000"/>
            <a:ext cx="2595600" cy="1739880"/>
          </a:xfrm>
          <a:prstGeom prst="pie">
            <a:avLst/>
          </a:prstGeom>
          <a:solidFill>
            <a:srgbClr val="bbe0e3">
              <a:alpha val="6000"/>
            </a:srgbClr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רגע חושב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מטרות המודל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הפג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הזעם של הלקו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פתיחת ערוצי תקשורת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חיוביי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לאפשר לנותן השירות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הבנה טוב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יותר של הלקו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הבאת הלקוח למצב ש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פיתרו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ללא החמר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מניעת התדרדרו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השיח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להחזי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את הלקוח אל החבר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הנחות היסוד במודל הטיפול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זה לגיטימי לכעוס ולצעוק על שירות רע או מוצר שהתקלק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לקוח זועם כאשר מרגיזים אותו באמ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לקוח נמצא במצוק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מצוקה ניתנת לפתרון – על ידך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יעדר טיפול יחמיר את המצ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מרבית הטיפול הנדרש הנו תקשורת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תוך מציאת פתרון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2133720"/>
            <a:ext cx="83012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חשוב לדעת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המצוקה ניתנת לפתרון – על ידך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היעדר טיפול יחמיר את המצ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מרבית הטיפול הנדרש הנו תקשורתי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שי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תוך חשיבה שקול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טיפול תקשורתי קודם לטיפול במצוקה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ל הלקו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מודל חמשת השלבים לטיפול בלקוחות זועמים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4248000" cy="2547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שלב ראשון – שלב פריקת הזע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תן ללקוח להוציא את זעמו (גם אם אינך מסכים לדבריו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בע אמפתיה ללקוח ("אני מבין את הכעס שלך..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הקשב ללקוח (טיפים להקשבה ניתן למצוא במצגת השירות הטלפוני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אל תעשה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את תקטע את דבריו, אל תנסה לענות לו בשטף דיבור, אל תיקח את דברי הלקוח אישית, אל תשפוט את הכעס,אל תנסה להצדיק את מעשה החברה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5:53:49Z</dcterms:created>
  <dc:creator>סמדר</dc:creator>
  <dc:description/>
  <dc:language>en-US</dc:language>
  <cp:lastModifiedBy>Boaz</cp:lastModifiedBy>
  <dcterms:modified xsi:type="dcterms:W3CDTF">2006-10-24T12:29:29Z</dcterms:modified>
  <cp:revision>46</cp:revision>
  <dc:subject/>
  <dc:title>שקופית 1</dc:title>
</cp:coreProperties>
</file>