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497D8-A03E-4260-8035-0BCDE552C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2A81A-523F-4F1F-8198-A7736D8CD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EADC1-8C95-4682-A994-515B330BC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C13BC-27AD-49E8-951F-21D7FA006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035D0-34DF-40B5-9A9A-91AC1E4A0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0D2CD-DBE5-4A06-AC73-62CB87DD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97AC1-AAF3-4D43-9799-1C756E702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364D4-8663-41DF-81B6-CC3FAC3AA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C54E5-CED9-43A8-8688-3FFA94C3B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F2A08-8D25-4EE2-91F1-0FB6C3D38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0D77F-9E81-44E0-BBAA-1D37CED69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72B91-75B6-417A-8562-8E9AD5067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4045-DC6A-4787-AA6C-5995F1155B46}"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oaz8.co.il/"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640"/>
            <a:ext cx="7773840" cy="4176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800" spc="-1" strike="noStrike">
                <a:solidFill>
                  <a:srgbClr val="ff6600"/>
                </a:solidFill>
                <a:latin typeface="Arial"/>
                <a:cs typeface="Aharoni"/>
              </a:rPr>
              <a:t>סדנא ביחסי אנוש ובתקשורת </a:t>
            </a:r>
            <a:br>
              <a:rPr sz="8800"/>
            </a:br>
            <a:r>
              <a:rPr b="1" lang="hi-IN" sz="8800" spc="-1" strike="noStrike">
                <a:solidFill>
                  <a:srgbClr val="ff6600"/>
                </a:solidFill>
                <a:latin typeface="Arial"/>
                <a:cs typeface="Aharoni"/>
              </a:rPr>
              <a:t>בין אישית</a:t>
            </a:r>
            <a:endParaRPr b="0" lang="en-US" sz="8800" spc="-1" strike="noStrike">
              <a:solidFill>
                <a:srgbClr val="000000"/>
              </a:solidFill>
              <a:latin typeface="Arial"/>
            </a:endParaRPr>
          </a:p>
        </p:txBody>
      </p:sp>
      <p:sp>
        <p:nvSpPr>
          <p:cNvPr id="42" name="PlaceHolder 2"/>
          <p:cNvSpPr>
            <a:spLocks noGrp="1"/>
          </p:cNvSpPr>
          <p:nvPr>
            <p:ph type="subTitle"/>
          </p:nvPr>
        </p:nvSpPr>
        <p:spPr>
          <a:xfrm>
            <a:off x="1403280" y="4797000"/>
            <a:ext cx="6400800" cy="175284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בועז נחמד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ea typeface="Aharoni"/>
              </a:rPr>
              <a:t> </a:t>
            </a:r>
            <a:r>
              <a:rPr b="1" lang="he-IL" sz="3200" spc="-1" strike="noStrike">
                <a:solidFill>
                  <a:srgbClr val="000000"/>
                </a:solidFill>
                <a:latin typeface="Arial"/>
                <a:ea typeface="Aharoni"/>
              </a:rPr>
              <a:t>050-5201857</a:t>
            </a:r>
            <a:r>
              <a:rPr b="0" lang="en-US" sz="3200" spc="-1" strike="noStrike" u="sng">
                <a:solidFill>
                  <a:srgbClr val="009999"/>
                </a:solidFill>
                <a:uFillTx/>
                <a:latin typeface="Arial"/>
                <a:ea typeface="Aharoni"/>
                <a:hlinkClick r:id="rId1"/>
              </a:rPr>
              <a:t>www.boaz8.co.il</a:t>
            </a:r>
            <a:r>
              <a:rPr b="1" lang="en-US" sz="3200" spc="-1" strike="noStrike">
                <a:solidFill>
                  <a:srgbClr val="000000"/>
                </a:solidFill>
                <a:latin typeface="Arial"/>
                <a:ea typeface="Aharoni"/>
              </a:rPr>
              <a:t>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haroni"/>
              </a:rPr>
              <a:t>boaz8@zahav.ne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שיקוף</a:t>
            </a:r>
            <a:endParaRPr b="0" lang="en-US" sz="4400" spc="-1" strike="noStrike">
              <a:solidFill>
                <a:srgbClr val="000000"/>
              </a:solidFill>
              <a:latin typeface="Arial"/>
            </a:endParaRPr>
          </a:p>
        </p:txBody>
      </p:sp>
      <p:sp>
        <p:nvSpPr>
          <p:cNvPr id="57"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fontScale="79000"/>
          </a:bodyPr>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יכולת שלי לחזור על הדברים שאומר לי האדם מולו אני עומד (בשיחת טלפון או בפגישה). </a:t>
            </a:r>
            <a:endParaRPr b="0" lang="en-US" sz="3200" spc="-1" strike="noStrike">
              <a:solidFill>
                <a:srgbClr val="000000"/>
              </a:solidFill>
              <a:latin typeface="Arial"/>
            </a:endParaRPr>
          </a:p>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זאת יכולת שמעידה על כך שהקשבתי לדברים שהוא אמר ושמעתי אותם ואני מסוגל לחזור עליהם באוזניו.</a:t>
            </a:r>
            <a:endParaRPr b="0" lang="en-US" sz="3200" spc="-1" strike="noStrike">
              <a:solidFill>
                <a:srgbClr val="000000"/>
              </a:solidFill>
              <a:latin typeface="Arial"/>
            </a:endParaRPr>
          </a:p>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תוצאה של השיקוף היא נהדרת: היא יוצרת אצל הזולת תחושה כי הקשיבו לו, שמעו אותו והבינו אותו. </a:t>
            </a:r>
            <a:endParaRPr b="0" lang="en-US" sz="3200" spc="-1" strike="noStrike">
              <a:solidFill>
                <a:srgbClr val="000000"/>
              </a:solidFill>
              <a:latin typeface="Arial"/>
            </a:endParaRPr>
          </a:p>
          <a:p>
            <a:pPr marL="270720" indent="-2707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ניתן לשקף את הדברים שנאמרו לנו בצורה ישירה (חזרה ברורה ומדוייקת על המילים שנאמרו לנו על ידי הזולת) או בצורה עקיפה (תוך שינוי הניסוח למילים שלנ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3000"/>
          </a:bodyPr>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מלצה היא לעשות את זה על ידי שימוש במילים מעט אחרות שמצביעות העובדה האמיתית שבאמת הקשבנו לזולת. </a:t>
            </a:r>
            <a:endParaRPr b="0" lang="en-US" sz="32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אפשר לבצע שיקוף גם לרגשות של הזולת, בנוסף למילים שהוא מדבר. </a:t>
            </a:r>
            <a:endParaRPr b="0" lang="en-US" sz="3200" spc="-1" strike="noStrike">
              <a:solidFill>
                <a:srgbClr val="000000"/>
              </a:solidFill>
              <a:latin typeface="Arial"/>
            </a:endParaRPr>
          </a:p>
          <a:p>
            <a:pPr marL="318960" indent="-31896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ניתן לבצע שיקוף לרגשות מוסתרים של הזולת, שלא הודגשו ולא נאמרו בצור מפורשת אלו הובנו על ידינו במהלך השיחה עם הזולת.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שיקוף הרגשות, המצב הנפשי של הזולת או את התחושות שהוא משדר אלינו – כל אלו מתקרבים מאוד לתהליכים של אמפטיה – ועל כך נדון בהמש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כאשר משקפים את הדברים שאמר אדם שנמצא במצוקה נפשית, לאחר כעס או כאב, או אכזבה  - ייתכן שחלק מהדברים שהוא אומר לא מסודרים בצורה סדורה של מילים ופרשנות לוגית והגיונית. </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תפקיד השיקוף הוא לסנן את כל הנקודות הפחות חשובות שהועלו על ידי האדם הכועס ולשקף את הנקודות שעלו, שהן עיקרי הדברים. </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במידה ויש צורך לבצע שיקוף ללקוח כועס, לדוגמא, אין לחזור ולשקף את האיומים שלו שהופנו כלפינו או את הסחטנות הרגשית שניסה לעשו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אמפטיה</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אמפטיה היא היכולת הבסיסית של אדם להזדהות עם הזולת, עם מצב הרוח ועם המצב הנפשי בו הזולת של השיחה או הפגישה, נמצא. </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קיימת אמפטיה פשוטה בה אין צורך להתאמץ – מאחר ואני מסוגל להבין את הזולת, הייתי בדיוק במקום שלו ובנוסף אני גם מבין אותו – אגלה כלפיו אמפטיה. </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מורכב יותר ומסובך יותר: לגלות אמפטיה כאשר אני לא מסוגל להבין את הצד השני ולא הייתי במקומ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לגלות אמפטיה הוגדרה בתור אחת מתוך ארבעת היכולות החשובות ביותר באינטליגנציה הרגשית, ושתיים מתוך היכולות החשובות ביותר בתקשורת בין אישית עם אנשים אחרים.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לגלות אמפטיה מייצרת סוג של קירבה, יחס חם ואוהד בין שני אנשים – גם כאשר הללו חלוקים בדעתם או שונים בגישה שלהם או מגיעים עם עמדות אחרו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עידוד</a:t>
            </a:r>
            <a:r>
              <a:rPr b="1" lang="en-US" sz="4400" spc="-1" strike="noStrike">
                <a:solidFill>
                  <a:srgbClr val="000000"/>
                </a:solidFill>
                <a:latin typeface="Arial"/>
                <a:ea typeface="Aharoni"/>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הבין אישית לספק תמיכה לחבר או עמית שנמצא במצב נפשי קשה או לקראת סיטואציה  מורכבת.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יכולת זאת מביעה את העובדה שאנו מסוגלים, בעת צרה של עמיתים שלנו, לספק להם נקודת אור חיובית.</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בתהליך של עידוד אנו עושים מאמצים מאוד גדולים לוודא כי הזולת שלנו יקבל מאיתנו משאבים נפשיים מאוד חזקים לנוכח מצב נפשי בו הוא נמצא או לקראת מצב נפשי אליו הוא עתיד להגיע.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haroni"/>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907560"/>
            <a:ext cx="8229600" cy="5473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יש לשים דגש על העובדה כי עידוד לא מדבר על איתור דרך לסייע פיזית לאדם (שזה, כשלעצמו, חשוב מאוד) אלא על העובדה כי אנו סומכים עלי העוצמות הפנימיות שלו, ותומכים בו נפשית שיצליח לעבור את המשבר הזה, את הקושי הזה בהצלחה.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עידוד הנפשי מסייע לאדם להאמין בעצמו, ביכולות שלו, ובאפשרות לצאת מהמשבר הנפשי בו הוא נמצ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פרגון</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שלי להעביר מסר חיובי לעמית שלי, שמטרתו היא להודות, לומר תודה – על מאמצים או על תוצאות. </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אפשר לפרגן הן על המאמצים והן על התוצאות – ואולי גם על המאמצים והתוצאות בו זמנית. </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במקרה בו התוצאות לא היו הטובות ביותר אך המאמצים היו בכיוון הנכון – יש לפרגן על המאמצים. </a:t>
            </a:r>
            <a:endParaRPr b="0" lang="en-US" sz="3200" spc="-1" strike="noStrike">
              <a:solidFill>
                <a:srgbClr val="000000"/>
              </a:solidFill>
              <a:latin typeface="Arial"/>
            </a:endParaRPr>
          </a:p>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מומלץ לפרגן על תוצאות גם כאשר התוצאות מתאימות לזולת אך פחות מעניינות אותנו או בעיניים שלנו הרבה פחות משמעותיו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רגון הוא לזולת, ולא עלפי מה שלנו נדמה או נראה התוצאה.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רגון יוצר תוצאה מדהימה של קשר נפשי מאוד חזק. הצד השני מגלה פתאום כי אתה מסוגל להעריך את המאמצים או את התוצאה וזה פשוט עושה לו טוב.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רגון דורש מהמפרגן להיות כן. לא ניתן לעשות זאת בצורה של הונאה או שקר – זה מתגלה מהר מאוד.</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לדבר בגובה העיניים</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יכולת שלי להתאים את השפה בה אני מדבר לאדם מולו אני מדבר בלי להביע שום זילזול (כלפי אנשים שנראה לי שהם יותר נחותים ממני) ובלי שום הערצה או הערכת יתר (כלפי אנשי שאני בטוח שאני נחות מהם).</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שיחה בגובה העיניים דורשת התאמה שלי  לצד השני, עלפי האדם שנמצא בצד השני של הטלפון או של השיחה שאני מבצע.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לעולם – אדבר עם הזולת בצורה שהוא ירגיש כי אני מתייחס אליו כאל האדם החשוב לי ביותר כרגע.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מבוא</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תקשורת בין אישית היא סט של יכולות ושל מיומנויות חשובות מאוד, בין שני אנשים.</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א יכולה לבוא לידי ביטוי בשיחת טלפון או בפגישה.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תקשורת הבין אישית קיימת גם אם אנו מודעים לזה וגם אם לא מודעים – ולכן כדאי מאוד להיות מודע לכך.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תקשורת הבין אישית באה לידי ביטוי במילים שאמרנו, בשפת הגוף, בטון הדיבור, באכפתיות שלנו – כלפי הזול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לדבר בגובה העיניים אין פירושו של דבר להשפיל מבט או להוריד את השיחה.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פירושו להתאים את עצמי לאדם מולו אני עומד. פירושו של דבר להיות גמיש במחשבות שלי, ובהתנהגות שלי.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לדבר בגובה העיניים פירושו של דבר שלא לתת עדיפות לפרופסור בגלל שהוא פרופסור ולדחות אדם בגלל שהוא מוסכניק. לדבר בגובה העיניים פירושו של דבר כי כל אדם מקבל את הכבוד הראוי לו.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פירושו של דבר לדבר לכל אדם בשפה הנעימה לו והנוחה לו ביות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לדבר בגובה העיניים אין פירושו של דבר לקבל את כל מה שאמרו לנו בלשונו וככתובו – אפשר וניתן לחלוק על דעתו של הזולת. ברם, גם במצב זה, לעשות זאת בצורה הנעימה ביותר הקיימת. בגובה העיניי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Aharoni"/>
              </a:rPr>
              <a:t>סיכום</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ות הבין אישיות שהוצגו כאן הם חשובות בצורה בלתי רגילה – לקידום קשרים אישיים. </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את הפעילויות האלו עושים בעיקר עבור הזולת – על מנת לייצר ערוצי תקשורת חיוביים ופתוחים. </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עילויות הללו, בחלקן, דורשות הורדת האגו האישי שלנו במהלך התהליך של התקשורת הבין אישית.</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ורדת האגו האישי קשה למספר רב של אנשים – וזאת הסיבה לעובדה שהתקשורת הבין אישית שלהם לוקה בחסר והיא נמוכה מאוד.  </a:t>
            </a:r>
            <a:endParaRPr b="0" lang="en-US" sz="32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פעילויות אלו אינן גורעות מ"האני העצמי שלי": הקשבה ואמפטיה לא מרמזת על העובדה כי אני מסכים עם האדם שמולו אני עומד.</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ברם, אוכל להיכנס עם האדם שמולו אני עומד, לדיון ולשיחה רק לאחר שהקשבתי בתשומת לב מלאה לדברים שהוא אומר או שהוא מספר. </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יכולות אלו, המופיעות בקובץ זה – ניתנות לשיפור, לשדרוג עצמי וללמידה. </a:t>
            </a:r>
            <a:endParaRPr b="0" lang="en-US" sz="3200" spc="-1" strike="noStrike">
              <a:solidFill>
                <a:srgbClr val="000000"/>
              </a:solidFill>
              <a:latin typeface="Arial"/>
            </a:endParaRPr>
          </a:p>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פעולות הללו דורשות ומחייבות משמעת עצמית ורמת מודעות אישית – גבוהות מאו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זולת יכול להיות עמית לעבודה, אמא או אח, דוד וקרוב משפחה אחר, לקוח, מנהל, ספק, עובד שעליו אני ממונה, אמא של ילד מהגן או של ילדה מבית הספר.</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תקשורת בין אישית מתקיימת ב"בליינד דייט", ראיון עבודה, שיחת טלפון עם לקוח, ישיבה, ארוחת ערב משותפת עם הילדים.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בעוד שקיימת נטיה אצל אנשים בינוניים בתקשורת בין אישית להתמקד בעצמם, לספר על עצמם, להעביר את הדיון אליהם: אצל מצטיינים בתקשורת בין אישית יש נטיה להקשיב,  לשקף, לאמפט, להכיל ועו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להיות מתקשר חיובי מעולה – דורשת הורדה קבועה ואמיתית של האגו האישי.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תקשורת בין אישית מתייחסת אל הזולת בגובה העיניים.</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תקשורת בין אישית דורשת מאמצים, אנרגיות, השקעה ולימוד של הצד השנ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סבלנות וסובלנות</a:t>
            </a:r>
            <a:endParaRPr b="0" lang="en-US" sz="4400" spc="-1" strike="noStrike">
              <a:solidFill>
                <a:srgbClr val="000000"/>
              </a:solidFill>
              <a:latin typeface="Arial"/>
            </a:endParaRPr>
          </a:p>
        </p:txBody>
      </p:sp>
      <p:sp>
        <p:nvSpPr>
          <p:cNvPr id="48" name="PlaceHolder 2"/>
          <p:cNvSpPr>
            <a:spLocks noGrp="1"/>
          </p:cNvSpPr>
          <p:nvPr>
            <p:ph/>
          </p:nvPr>
        </p:nvSpPr>
        <p:spPr>
          <a:xfrm>
            <a:off x="324000" y="1412640"/>
            <a:ext cx="8362800" cy="4895640"/>
          </a:xfrm>
          <a:prstGeom prst="rect">
            <a:avLst/>
          </a:prstGeom>
          <a:noFill/>
          <a:ln w="0">
            <a:noFill/>
          </a:ln>
        </p:spPr>
        <p:txBody>
          <a:bodyPr lIns="90000" rIns="90000" tIns="46800" bIns="46800" anchor="t">
            <a:normAutofit fontScale="84000"/>
          </a:bodyPr>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שלי לעצור את העצמי האישי שלי ולתת לזולת את המקום הנדרש אצלי. </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שלי לגלות סבלנות כלפי השונה, כלפי האחר, כלפי דברים שלא מתאימים לי או לא מוכרים לי. </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הבין אישית שלי "לקחת פסק זמן", "לקחת אוויר" – מהעצמי שלי, לטובתו של האדם האחר (הזולת), להקצות לו זמן, כבוד, אנרגיות. </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יכולת להיות עם השונה, האחר, הלא מוכר – באותה הנאה ופתיחות שיש לי כלפי המוכר והידוע והאהוב. </a:t>
            </a:r>
            <a:endParaRPr b="0" lang="en-US" sz="3200" spc="-1" strike="noStrike">
              <a:solidFill>
                <a:srgbClr val="000000"/>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הכלה</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הכלה זאת היכולת שלי להכיל את הנפש של הזולת איתו אני מדבר או איתו אני מתקשר. </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זאת היכולת שלי להכיל את הזולת בלי לשפוט אותו או את ההתנהגות שלו בצורה ערכית נורמטיבית. </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זאת היכולת שלי להיות ולהבין -  מבחינה נפשית, את המצב הנפשי המדוייק בו העמית שלי נמצא. </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cs typeface="Aharoni"/>
              </a:rPr>
              <a:t>זאת היכולת שלי לקבל את התחושות של האדם שעומד מולי בצורה אובייקטיבית לחלוטי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הקשבה</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היא יכולת בין אישית מאוד חשובה ומיועדת ליצירת קשר בין אישי מאוד חזק. </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היא היכולת שלי לשמוע את העמית שלי (חבר, מנהל, מפקד, לקוח) תוך שאני לומד את הדברים שהוא מדבר ומספר. </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יוצרת תהליך תקשורתי אנרגטי מאוד מאחר והיא מאפשרת לעמית שלי לספר ולדבר על עצמו ועל מה שקורה לו ועל מה שהוא חוו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בעצם התעניינות שלי בזול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תעניינות אמיתית באדם שבו, באישיות שלו, בחוויות שהוא חווה, בהרגשות שהוא מרגי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הקשבה זה הרצון שלי לשמוע מה קורה אצל הזולת, מה חדש אצלו, מה עשה לו טוב, מה גורם לו לכיף.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cc"/>
                </a:solidFill>
                <a:latin typeface="Arial"/>
                <a:cs typeface="Aharoni"/>
              </a:rPr>
              <a:t>הקשבה בזמן כעס</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חלק של ההקשבה המורכב יותר: להקשיב ולשמוע את הזולת כאשר הוא נמצא במצב של כעס. </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הקשה ביותר – כאשר הצד השני נמצא בכעס עלי או (לא פחות מסובך) כאשר אנו לא מסוגלים להבין מדוע הכעס של הצד השני התפרץ לרמות כאלו.</a:t>
            </a:r>
            <a:endParaRPr b="0" lang="en-US" sz="3200" spc="-1" strike="noStrike">
              <a:solidFill>
                <a:srgbClr val="000000"/>
              </a:solidFill>
              <a:latin typeface="Arial"/>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Aharoni"/>
              </a:rPr>
              <a:t>דווקא ההקשבה, במצב של כעס, מסוגלת לייצר שחרור של חלק מתוך הכעסים, להרגיע ולהוביל לקראת המשך תקשורת בין אישית פתוח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5:56:39Z</dcterms:created>
  <dc:creator>Boaz</dc:creator>
  <dc:description/>
  <dc:language>en-US</dc:language>
  <cp:lastModifiedBy>Boaz</cp:lastModifiedBy>
  <dcterms:modified xsi:type="dcterms:W3CDTF">2006-11-16T17:44:15Z</dcterms:modified>
  <cp:revision>31</cp:revision>
  <dc:subject/>
  <dc:title>שיקוף ואמפטיה</dc:title>
</cp:coreProperties>
</file>